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F3A94-26EA-4EFF-AF61-13CD882FC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91F8F-DF73-44A2-870F-C705C7040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2EFEE-96DD-4686-A2CB-904A35AE3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7DB4E-F17C-47E9-9E69-DA5A7BBCD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5013C-A122-4E5B-AD94-5676A7A43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31E69-5D22-41DA-9EE2-B1B4C9E1E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32F50-025E-4BA5-B663-B324C8C18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E1A6A-5395-4A6C-9566-681A8C036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720ED-D2BD-4929-9E3A-A8A5E21F5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C201F-7970-4261-9570-0DB1C67A5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DB3C7-F346-4815-96A4-CE933FF37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D6793-066E-41A9-A608-823D82B62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5B712-C04E-46A4-A436-69D9BCBAFE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xxxx.com/" TargetMode="External"/><Relationship Id="rId2" Type="http://schemas.openxmlformats.org/officeDocument/2006/relationships/hyperlink" Target="http://www.ddddd.com/" TargetMode="External"/><Relationship Id="rId3" Type="http://schemas.openxmlformats.org/officeDocument/2006/relationships/hyperlink" Target="http://www.uuu.com/" TargetMode="External"/><Relationship Id="rId4" Type="http://schemas.openxmlformats.org/officeDocument/2006/relationships/hyperlink" Target="http://www.eeee.com/" TargetMode="External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3760" y="217440"/>
            <a:ext cx="8610480" cy="6477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92200" y="304920"/>
            <a:ext cx="607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Bookman Old Style"/>
              </a:rPr>
              <a:t>Introducción a la Programación Lóg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263040" y="838080"/>
            <a:ext cx="265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800" spc="-1" strike="noStrike">
                <a:solidFill>
                  <a:srgbClr val="000000"/>
                </a:solidFill>
                <a:latin typeface="Bookman Old Style"/>
              </a:rPr>
              <a:t>Repasando la Historia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09200" y="1469880"/>
            <a:ext cx="22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Monotype Corsiva"/>
              </a:rPr>
              <a:t>John Alan Robin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203440" y="1471680"/>
            <a:ext cx="190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Monotype Corsiva"/>
              </a:rPr>
              <a:t>Robert Kowals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38080" y="1295280"/>
            <a:ext cx="7391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295280" y="1905120"/>
            <a:ext cx="3048120" cy="198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724280" y="1905120"/>
            <a:ext cx="3048120" cy="198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358640" y="3984480"/>
            <a:ext cx="642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Bookman Old Style"/>
              </a:rPr>
              <a:t>Para acceder a la bibliografía resumida de cada uno de ellos presione click en cada fo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38080" y="4495680"/>
            <a:ext cx="7391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09560" y="4572000"/>
            <a:ext cx="393264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Bookman Old Style"/>
              </a:rPr>
              <a:t>Link relacionad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 u="sng">
                <a:solidFill>
                  <a:srgbClr val="009999"/>
                </a:solidFill>
                <a:uFillTx/>
                <a:latin typeface="Bookman Old Style"/>
                <a:hlinkClick r:id="rId1"/>
              </a:rPr>
              <a:t>www.xxxx.com</a:t>
            </a:r>
            <a:r>
              <a:rPr b="0" lang="es-AR" sz="12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es-AR" sz="1200" spc="-1" strike="noStrike">
                <a:solidFill>
                  <a:srgbClr val="000000"/>
                </a:solidFill>
                <a:latin typeface="Bookman Old Style"/>
              </a:rPr>
              <a:t>Explicación breve del link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 u="sng">
                <a:solidFill>
                  <a:srgbClr val="009999"/>
                </a:solidFill>
                <a:uFillTx/>
                <a:latin typeface="Bookman Old Style"/>
                <a:hlinkClick r:id="rId2"/>
              </a:rPr>
              <a:t>www.ddddd.com</a:t>
            </a:r>
            <a:r>
              <a:rPr b="0" lang="es-AR" sz="12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es-AR" sz="1200" spc="-1" strike="noStrike">
                <a:solidFill>
                  <a:srgbClr val="000000"/>
                </a:solidFill>
                <a:latin typeface="Bookman Old Style"/>
              </a:rPr>
              <a:t>Explicación breve del link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 u="sng">
                <a:solidFill>
                  <a:srgbClr val="009999"/>
                </a:solidFill>
                <a:uFillTx/>
                <a:latin typeface="Bookman Old Style"/>
                <a:hlinkClick r:id="rId3"/>
              </a:rPr>
              <a:t>www.uuu.com</a:t>
            </a:r>
            <a:r>
              <a:rPr b="0" lang="es-AR" sz="12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es-AR" sz="1200" spc="-1" strike="noStrike">
                <a:solidFill>
                  <a:srgbClr val="000000"/>
                </a:solidFill>
                <a:latin typeface="Bookman Old Style"/>
              </a:rPr>
              <a:t>Explicación breve del link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 u="sng">
                <a:solidFill>
                  <a:srgbClr val="009999"/>
                </a:solidFill>
                <a:uFillTx/>
                <a:latin typeface="Bookman Old Style"/>
                <a:hlinkClick r:id="rId4"/>
              </a:rPr>
              <a:t>www.eeee.com</a:t>
            </a:r>
            <a:r>
              <a:rPr b="0" lang="es-AR" sz="12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es-AR" sz="1200" spc="-1" strike="noStrike">
                <a:solidFill>
                  <a:srgbClr val="000000"/>
                </a:solidFill>
                <a:latin typeface="Bookman Old Style"/>
              </a:rPr>
              <a:t>Explicación breve del link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20320" y="5943600"/>
            <a:ext cx="701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Bookman Old Style"/>
              </a:rPr>
              <a:t>Si está interesado en recibir información periódica envíe un mail a la siguiente casilla de correo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Bookman Old Style"/>
              </a:rPr>
              <a:t>LOSGENIOSMATEMATICOS@HOTMAIL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6T01:19:18Z</dcterms:created>
  <dc:creator>Administrator</dc:creator>
  <dc:description/>
  <dc:language>en-US</dc:language>
  <cp:lastModifiedBy>Administrator</cp:lastModifiedBy>
  <dcterms:modified xsi:type="dcterms:W3CDTF">2010-04-06T01:26:31Z</dcterms:modified>
  <cp:revision>2</cp:revision>
  <dc:subject/>
  <dc:title>Slide 1</dc:title>
</cp:coreProperties>
</file>